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8753-DECB-4A69-BBDA-77E14162C4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ork in pairs / small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B14-FFC1-4A29-93FD-0A6E92914B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1.5 – 2 hours: speaking – 10 mins; grammar focus: 10 mins; quiz – 10–20 mins; reading – 20–30 mins; writing – 20–30 mins; final reading – 1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38AB-3EE3-44BE-B151-516EADF941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h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y used to”. Sentence 2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reat d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FE6A-8A0B-47BB-9B15-6B787900F9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anywhe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el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”. Sentence 2 should be “export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 …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840B-433E-40DF-AD0B-5BAABCBDB4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quiz answers in groups or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4DC-E9AC-41EF-857B-CE5686FFA0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the class into 3 groups and give one text (paper version or on-line) to each group to find the answers. Then they can comp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9F96-4E23-49B3-878F-59B7874F64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81B-BFF5-4D3E-95BE-49E2A4D2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220-C7C2-4ED0-8F0C-B9F0566A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703-416D-4F23-BABF-9ED38FFF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E4C-35CF-4382-9961-34B5789A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200-2914-4A9B-AB2C-42058EF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6F9-6166-48F0-8A84-8464D3B5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EC2-2009-44AB-B33A-124F0FC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C2D-BFC0-46DC-BC06-2CD89112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C20-B1F4-4768-ADAD-FB3FB358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EFC-31EA-49B2-9C38-CC47DDF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181-944E-4863-AF70-F1B66E24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0D2-A762-4BF9-AA9A-87350C00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F1C3-6E0A-4E26-8C76-A282AC7498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eewiki.newint.org/index.php/A_new_Cuba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2103480" y="1749600"/>
            <a:ext cx="595476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112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Intermediate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3148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00052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59000" y="309600"/>
            <a:ext cx="573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) Find three pos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oints about Cu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nd three problem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has in each of th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 articles.  Compare wi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th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) Choose one of the articles to read in the original version – click on the link at the bottom of the Easy English article. Compare / learn from the differences in the language between the tw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67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2808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39760" cy="30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2927520" y="1262160"/>
            <a:ext cx="2160360" cy="324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4652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5"/>
          <a:stretch/>
        </p:blipFill>
        <p:spPr>
          <a:xfrm>
            <a:off x="900000" y="439092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6"/>
          <a:stretch/>
        </p:blipFill>
        <p:spPr>
          <a:xfrm>
            <a:off x="5551560" y="1341360"/>
            <a:ext cx="3566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PHOTO_ESSAY:_Cuba_is_cha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2582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discussing graph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Book Antiqua"/>
              </a:rPr>
              <a:t>Grammar focus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making comparis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quiz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skimm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for detai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ook Antiqua"/>
              </a:rPr>
              <a:t>Writing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 captions for phot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3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to compare cap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67760" cy="2256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2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176040" y="-49320"/>
            <a:ext cx="8643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56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1/ Cuba now exports far less rum as they used t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2/ Cuba exports great deal more oil products now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3/ Now Cuba exports a lot more medical services than before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645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2723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1/ More of their imports came from Venezuela than anywhere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2/ They exported most to Venezuela than to any other country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3/ They imported slightly more from Spain than from Brazi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7053120" y="-55440"/>
            <a:ext cx="2041560" cy="126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/ How old is Cuba's leader Raul Castro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/ And how old is Fidel Castro (Cuba's leader before his brother Raul)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/ How much does a car cost in Cuba that costs $30,000 in Europe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5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12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/ Until when was it illegal for Cubans to use internet from their home computer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May 198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May 2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May 2014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/ When will President Raul Castro leave politics as Presiden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201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201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202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/ What % of the Government deputies in Cuba are in the Communist Party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50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73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/ When was the revolution in Cub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5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/ And when was the Cuban missile crisi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2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/ How much will the new Cuban port at Mariel cos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9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9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90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/ How many doctors have Cuba sent to Venezuel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3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3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-85680" y="0"/>
            <a:ext cx="912024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919160"/>
            <a:ext cx="8715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1, 2, 3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 new Cub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A_new_Cub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4, 5, 6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– the communist party and the medi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http://eewiki.newint.org/index.php/Cuba_%E2%80%93_the_communist_party_and_the_medi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7, 8, 9, 10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’s big bet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uba%27s_big_b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</a:t>
            </a: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( If you need the answers, see:  http://eewiki.newint.org/index.php/CUBA_quiz:_answer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867280" y="1058760"/>
            <a:ext cx="3027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5:12:43Z</dcterms:created>
  <dc:creator>Linda Ruas</dc:creator>
  <dc:description/>
  <dc:language>en-US</dc:language>
  <cp:lastModifiedBy>Linda Ruas</cp:lastModifiedBy>
  <dcterms:modified xsi:type="dcterms:W3CDTF">2014-11-02T12:36:17Z</dcterms:modified>
  <cp:revision>17</cp:revision>
  <dc:subject/>
  <dc:title>Cuba</dc:title>
</cp:coreProperties>
</file>